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DEE-6864-40B3-BB34-05A14EEA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0F1-3F9A-4D1A-814E-51CF9E26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4CC-5FC2-4B06-8E10-2270321F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01F-81FC-4E15-AFC1-D0152747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376-C5A7-481F-A5DE-9A5221A6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49B-361C-45FA-B872-8B80AFA7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8A9-FBB2-40A6-A324-4D9F7918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0D3-DFE7-40EE-A3DB-0DB74752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7E6-FD8A-4433-BECD-E9F1797E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9A6-B0F9-42D6-97E1-BABFD7E4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747-614F-4EDD-8361-3B172FD7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C0E-0EE0-4E19-ACB4-B88F5B43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520F-D200-4293-A456-8AEF54F0DC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Verner Panton 2"/>
          <p:cNvPicPr/>
          <p:nvPr/>
        </p:nvPicPr>
        <p:blipFill>
          <a:blip r:embed="rId1"/>
          <a:srcRect l="4544" t="13178" r="4688" b="3700"/>
          <a:stretch/>
        </p:blipFill>
        <p:spPr>
          <a:xfrm>
            <a:off x="4130640" y="2027160"/>
            <a:ext cx="3840120" cy="4175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143720" y="701640"/>
            <a:ext cx="40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earning space bench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773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385720" y="630864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 learn in many different way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Kahn Exeter Library 1"/>
          <p:cNvPicPr/>
          <p:nvPr/>
        </p:nvPicPr>
        <p:blipFill>
          <a:blip r:embed="rId1"/>
          <a:stretch/>
        </p:blipFill>
        <p:spPr>
          <a:xfrm>
            <a:off x="685800" y="343080"/>
            <a:ext cx="777708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62120" y="6216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like about this space? Who does this space work for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ronx multipurpose_new"/>
          <p:cNvPicPr/>
          <p:nvPr/>
        </p:nvPicPr>
        <p:blipFill>
          <a:blip r:embed="rId1"/>
          <a:stretch/>
        </p:blipFill>
        <p:spPr>
          <a:xfrm>
            <a:off x="1714680" y="39060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2362320" y="624852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they learning? Do you learn this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58-L!brary-Entrance"/>
          <p:cNvPicPr/>
          <p:nvPr/>
        </p:nvPicPr>
        <p:blipFill>
          <a:blip r:embed="rId1"/>
          <a:stretch/>
        </p:blipFill>
        <p:spPr>
          <a:xfrm>
            <a:off x="1219320" y="533520"/>
            <a:ext cx="2084400" cy="2571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58-Overhang-and-Bookshelf"/>
          <p:cNvPicPr/>
          <p:nvPr/>
        </p:nvPicPr>
        <p:blipFill>
          <a:blip r:embed="rId2"/>
          <a:stretch/>
        </p:blipFill>
        <p:spPr>
          <a:xfrm>
            <a:off x="1287360" y="3886200"/>
            <a:ext cx="206532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Library Interior"/>
          <p:cNvPicPr/>
          <p:nvPr/>
        </p:nvPicPr>
        <p:blipFill>
          <a:blip r:embed="rId3"/>
          <a:stretch/>
        </p:blipFill>
        <p:spPr>
          <a:xfrm>
            <a:off x="4114800" y="1143000"/>
            <a:ext cx="4730760" cy="5029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3505320" y="632448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do we lear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xs Basic House Martin Ruiz de Azua 1"/>
          <p:cNvPicPr/>
          <p:nvPr/>
        </p:nvPicPr>
        <p:blipFill>
          <a:blip r:embed="rId1"/>
          <a:stretch/>
        </p:blipFill>
        <p:spPr>
          <a:xfrm>
            <a:off x="2971800" y="533520"/>
            <a:ext cx="289872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1905120" y="32464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you carry your learning space with yo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xs Basic House Martin Ruiz de Azua 2"/>
          <p:cNvPicPr/>
          <p:nvPr/>
        </p:nvPicPr>
        <p:blipFill>
          <a:blip r:embed="rId1"/>
          <a:stretch/>
        </p:blipFill>
        <p:spPr>
          <a:xfrm>
            <a:off x="2971800" y="457200"/>
            <a:ext cx="5931000" cy="594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xs Basic House Martin Ruiz de Azua 1"/>
          <p:cNvPicPr/>
          <p:nvPr/>
        </p:nvPicPr>
        <p:blipFill>
          <a:blip r:embed="rId2"/>
          <a:stretch/>
        </p:blipFill>
        <p:spPr>
          <a:xfrm>
            <a:off x="457200" y="685800"/>
            <a:ext cx="28987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87800" y="838080"/>
          <a:ext cx="37339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7800" y="838080"/>
                    <a:ext cx="37339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5" descr="scan0001"/>
          <p:cNvPicPr/>
          <p:nvPr/>
        </p:nvPicPr>
        <p:blipFill>
          <a:blip r:embed="rId3"/>
          <a:stretch/>
        </p:blipFill>
        <p:spPr>
          <a:xfrm>
            <a:off x="542880" y="876240"/>
            <a:ext cx="4224240" cy="2862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635120" y="5867280"/>
            <a:ext cx="58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is this designed for? Could you learn in this sp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Bronx entry"/>
          <p:cNvPicPr/>
          <p:nvPr/>
        </p:nvPicPr>
        <p:blipFill>
          <a:blip r:embed="rId1"/>
          <a:stretch/>
        </p:blipFill>
        <p:spPr>
          <a:xfrm>
            <a:off x="3276720" y="1981080"/>
            <a:ext cx="5494320" cy="4368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ENTRANCE PORTAL 1"/>
          <p:cNvPicPr/>
          <p:nvPr/>
        </p:nvPicPr>
        <p:blipFill>
          <a:blip r:embed="rId2"/>
          <a:stretch/>
        </p:blipFill>
        <p:spPr>
          <a:xfrm>
            <a:off x="228600" y="228600"/>
            <a:ext cx="4327560" cy="2819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828800" y="6399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 now think about school spaces in different way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xs GucklHupf Austria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265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6280" y="641844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kHupf, Aust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800360" y="480060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ce can be adaptable for different needs and 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xs Storytelling Shed Cranbrook"/>
          <p:cNvPicPr/>
          <p:nvPr/>
        </p:nvPicPr>
        <p:blipFill>
          <a:blip r:embed="rId1"/>
          <a:stretch/>
        </p:blipFill>
        <p:spPr>
          <a:xfrm>
            <a:off x="1432080" y="1471680"/>
            <a:ext cx="6278400" cy="39132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3741120" y="595944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ces can be welco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380880" y="1066680"/>
            <a:ext cx="80773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Desig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Step 1.  Def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What?  We are redesigning 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Personal Learning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Who? Who are we designing f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My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How? How do people learn? How do people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experience spa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xs Hairy House England 1"/>
          <p:cNvPicPr/>
          <p:nvPr/>
        </p:nvPicPr>
        <p:blipFill>
          <a:blip r:embed="rId1"/>
          <a:stretch/>
        </p:blipFill>
        <p:spPr>
          <a:xfrm>
            <a:off x="1143000" y="222120"/>
            <a:ext cx="6715080" cy="5751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888000" y="60339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no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83760" y="641844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ry House, Eng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xs Hairy House England 2"/>
          <p:cNvPicPr/>
          <p:nvPr/>
        </p:nvPicPr>
        <p:blipFill>
          <a:blip r:embed="rId1"/>
          <a:stretch/>
        </p:blipFill>
        <p:spPr>
          <a:xfrm>
            <a:off x="681120" y="852480"/>
            <a:ext cx="77817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5238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my space look li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141200" y="701640"/>
            <a:ext cx="6141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ep 2:  Investigate and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ep 3.  Brain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143000" y="29718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ep 4.  Choose a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ep 5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escribe your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219320" y="434340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ep 6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valuate your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ep 7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resent your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logoSC06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238480" y="165240"/>
            <a:ext cx="4635360" cy="61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Hertzberger Pedastle"/>
          <p:cNvPicPr/>
          <p:nvPr/>
        </p:nvPicPr>
        <p:blipFill>
          <a:blip r:embed="rId1"/>
          <a:stretch/>
        </p:blipFill>
        <p:spPr>
          <a:xfrm>
            <a:off x="2325600" y="228600"/>
            <a:ext cx="445320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2871720" y="640080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efines a learning sp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ertzberger Bus"/>
          <p:cNvPicPr/>
          <p:nvPr/>
        </p:nvPicPr>
        <p:blipFill>
          <a:blip r:embed="rId1"/>
          <a:stretch/>
        </p:blipFill>
        <p:spPr>
          <a:xfrm>
            <a:off x="1209600" y="871560"/>
            <a:ext cx="6724800" cy="46576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209760" y="5791320"/>
            <a:ext cx="27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 learning ever sto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Roman Theatre Turkey 100ad"/>
          <p:cNvPicPr/>
          <p:nvPr/>
        </p:nvPicPr>
        <p:blipFill>
          <a:blip r:embed="rId1"/>
          <a:stretch/>
        </p:blipFill>
        <p:spPr>
          <a:xfrm>
            <a:off x="1108080" y="228600"/>
            <a:ext cx="6927840" cy="5386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387160" y="5943600"/>
            <a:ext cx="44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 have been learning for a long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Roman theatre from 100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earning space auditorium"/>
          <p:cNvPicPr/>
          <p:nvPr/>
        </p:nvPicPr>
        <p:blipFill>
          <a:blip r:embed="rId1"/>
          <a:stretch/>
        </p:blipFill>
        <p:spPr>
          <a:xfrm>
            <a:off x="2146320" y="182520"/>
            <a:ext cx="5141880" cy="576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386080" y="607068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 learn in many different space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earning space fire"/>
          <p:cNvPicPr/>
          <p:nvPr/>
        </p:nvPicPr>
        <p:blipFill>
          <a:blip r:embed="rId1"/>
          <a:stretch/>
        </p:blipFill>
        <p:spPr>
          <a:xfrm>
            <a:off x="457200" y="490680"/>
            <a:ext cx="8229600" cy="5419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3324240" y="617220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bout this sp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learning space computer"/>
          <p:cNvPicPr/>
          <p:nvPr/>
        </p:nvPicPr>
        <p:blipFill>
          <a:blip r:embed="rId1"/>
          <a:stretch/>
        </p:blipFill>
        <p:spPr>
          <a:xfrm>
            <a:off x="2068560" y="274680"/>
            <a:ext cx="5006880" cy="5851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2200320" y="6248520"/>
            <a:ext cx="47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ype of learning happens in this sp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21:24:50Z</dcterms:created>
  <dc:creator>Alyse Wheelock</dc:creator>
  <dc:description/>
  <dc:language>en-US</dc:language>
  <cp:lastModifiedBy>training</cp:lastModifiedBy>
  <dcterms:modified xsi:type="dcterms:W3CDTF">2009-11-07T15:30:49Z</dcterms:modified>
  <cp:revision>3</cp:revision>
  <dc:subject/>
  <dc:title>Slide 1</dc:title>
</cp:coreProperties>
</file>